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E7F-8542-461C-B059-EF1C5E9B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EBE-23E4-4A3C-BC0F-511148D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2D9-6364-40C1-8811-2FE62AA2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05E-82C6-41B2-A6C1-DAE086A4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53253-DB21-4E65-973C-4BE83EB9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3FA3D-F780-430C-AD2B-B164B1EE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2C7B3-133C-402F-9071-535316E5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6CCC8-9353-4630-BCCE-47B6AB91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03A4-F02B-442C-B10D-BF2CD7FE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46584-0AF9-486B-B5AF-532B2ED4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A4E8A-BA5C-4C6D-B9A5-B6A3D77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679-4EE1-4CE1-A2EC-7AE6C66E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886DF-2356-4915-8013-5F6AAFCF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835BC-E899-4371-870B-109A89C5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3C407-3332-4DF9-8907-927CD204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EE408-5427-49DB-A3C5-209E5F39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3D64B-C6D0-4DD1-A221-D0033495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D66-0821-45D4-8E36-DAB95E47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BC9-2CE3-4CFA-9E45-660808F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2F2-2F55-4F67-9CC6-FCE7ED49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7C6-DB32-4F96-982F-74B2FF2B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661-9663-4DD6-B7AA-F7BB5E1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816-D277-427B-AE5E-00AB1AF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4A4-202C-465D-AF73-07807A10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C7D-4CEE-47C7-9F62-5DB027BC0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5EEF-8578-46F4-99E0-D7A94A827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tosearch.it/UNE411/u12767339/" TargetMode="External"/><Relationship Id="rId3" Type="http://schemas.openxmlformats.org/officeDocument/2006/relationships/hyperlink" Target="http://www.fotosearch.it/UNE411/u12767339/" TargetMode="External"/><Relationship Id="rId4" Type="http://schemas.openxmlformats.org/officeDocument/2006/relationships/hyperlink" Target="http://www.fotosearch.it/UNE411/u12767339/" TargetMode="External"/><Relationship Id="rId5" Type="http://schemas.openxmlformats.org/officeDocument/2006/relationships/hyperlink" Target="http://www.fotosearch.it/UNE411/u12400036/" TargetMode="External"/><Relationship Id="rId6" Type="http://schemas.openxmlformats.org/officeDocument/2006/relationships/hyperlink" Target="http://www.fotosearch.it/UNE411/u12400036/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iallozafferano.it/ingredienti/Cioccolato" TargetMode="External"/><Relationship Id="rId3" Type="http://schemas.openxmlformats.org/officeDocument/2006/relationships/hyperlink" Target="http://www.giallozafferano.it/ingredienti/Mandorle" TargetMode="External"/><Relationship Id="rId4" Type="http://schemas.openxmlformats.org/officeDocument/2006/relationships/hyperlink" Target="http://www.giallozafferano.it/ingredienti/Uvetta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996920"/>
            <a:ext cx="845820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cript MT Bold"/>
              </a:rPr>
              <a:t>          </a:t>
            </a:r>
            <a:r>
              <a:rPr b="0" lang="en-US" sz="9600" spc="-1" strike="noStrike">
                <a:solidFill>
                  <a:srgbClr val="ffffff"/>
                </a:solidFill>
                <a:latin typeface="Script MT Bold"/>
              </a:rPr>
              <a:t>L’inverno</a:t>
            </a:r>
            <a:br>
              <a:rPr sz="9600"/>
            </a:b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644640"/>
            <a:ext cx="54720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Feste tradizionali e usanz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12000" y="3967200"/>
            <a:ext cx="288108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51280" cy="2809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5877000"/>
            <a:ext cx="50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ina Po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a a XI-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podan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va a una festa a casa degli ami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risto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uno schalet in montag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mette qualcosa di ros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mangia pes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lci sono al ciocola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456000" cy="2303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92720" y="4149720"/>
            <a:ext cx="3382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Il vischio e lo champag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9640" y="4437000"/>
            <a:ext cx="2695680" cy="198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2951280" cy="2449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3168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Auguri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8800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one feste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buClr>
                <a:srgbClr val="ffcc00"/>
              </a:buClr>
              <a:buSzPct val="120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elice        Capodanno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buClr>
                <a:srgbClr val="ffcc00"/>
              </a:buClr>
              <a:buSzPct val="120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a vacanz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antevole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4464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age Italic"/>
              </a:rPr>
              <a:t>Preparativi per le feste natalizi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edare la ca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are le carto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nare l’albero di Natale con le pal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345600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095640" cy="215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292720" y="3500280"/>
            <a:ext cx="266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Comprare i regall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672000" cy="5589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508720" y="1268280"/>
            <a:ext cx="259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age Italic"/>
              </a:rPr>
              <a:t>Pasqua con chi vuoi,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Rage Italic"/>
              </a:rPr>
              <a:t>Natale con i tuoi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e in famig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are delle canzoni natalizi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ttare il Babbo Nat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re i rega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0120" y="1905120"/>
            <a:ext cx="375264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8320" y="4005360"/>
            <a:ext cx="4495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cript MT Bold"/>
              </a:rPr>
              <a:t>cibi natalizi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0" r="-73370" b="0"/>
          <a:stretch/>
        </p:blipFill>
        <p:spPr>
          <a:xfrm>
            <a:off x="5219640" y="4365720"/>
            <a:ext cx="5472000" cy="2158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tacch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pasta artigian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parmiggi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l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ro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ate al limone e 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gliatelle con frutti di m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rtina con salmone affumic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LCI   NATALIZ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zenzero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, cas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imbottito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, d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rta al ciocol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ndorle zucche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nta piper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rame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5587920" y="2082960"/>
            <a:ext cx="2158920" cy="1625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5587920" y="4216320"/>
            <a:ext cx="21589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l panettone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zionato in mille modi diver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pl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le cre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il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ioccol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o senza copertura di glassa e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andor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za candi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o senz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uvet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79280" y="155736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age Italic"/>
              </a:rPr>
              <a:t>La nascita di Gesu Crist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va insieme alla famiglia in chi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partecipa alla messa di Na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ascolta in concerto straordinario di Na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va al pranzo religi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352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2736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L PRESE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84360" y="190512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ena dela nascita di G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nzionata da pietra e leg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ggi religio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2606760"/>
            <a:ext cx="4038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8:25:32Z</dcterms:created>
  <dc:creator>cursant</dc:creator>
  <dc:description/>
  <dc:language>en-US</dc:language>
  <cp:lastModifiedBy>cursant</cp:lastModifiedBy>
  <dcterms:modified xsi:type="dcterms:W3CDTF">2010-03-19T08:19:05Z</dcterms:modified>
  <cp:revision>6</cp:revision>
  <dc:subject/>
  <dc:title>L’inverno </dc:title>
</cp:coreProperties>
</file>